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545D1-1C8A-433F-AF34-E35955FFDA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A2FB5-EBC4-4B20-ADB5-1B7EA1053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s listed are just part of the initial group that we hope will be truly be a community eff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B01BB-E78C-46EF-A4E4-B3BAD2599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s are the knobs that we can 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s are what we can make decisions about and take actions to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5C2AF-1E1F-412D-B02F-C5F4CDEEC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s serve many purposes and have many kinds of u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in research community should understand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eeds overlap; for example climate and AQ relevant emissions have common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ly there should be strong coupling between providers of emissions information, those carrying out observations, and users of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ould build on what’s already being d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17D0E-FF50-48DF-B16E-DB538D8ED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derations motivated a few of us to organize a small workshop earlier this month in Boul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rst workshop was deliberately kept small (~40 people) in order to encourage a robust discu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ed on US groups, but of course want to reach out to international programs doing similar work, and on-going effort is wide open everyone in these comm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efinitely want other partners in this initiative: No state/local AQ agency people involved in workshop, for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formal meeting: talks were interspersed with lots of discu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admit that the list of people involved in the workshop was by no means a comprehensive view of the whole emissions community. But we touched on a lot key issues, which we hope will be expanded now that we are reaching out the broader commun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33F4E-4E9D-43A6-B3F7-91797EDF5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onsistent themes emerged from the workshop discus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While there is currently some coordination between these different efforts (development, obs, modeling), this coordination could really be improved. A community based approach is probably needed if we want to make progress on this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Even in our own discussions, there was confusion between different groups about classifications of sector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ing a systematic approach to comparing different inventories is really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ing and evaluating AQ and climate relevant emissions have largely been separate affairs, particularly in the US; that must change, since the sources and impacts are coup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g issue is how long it takes to produce inventories. Example is 4-5 year lag in NEI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we can only evaluate total emissions, or at best sector-wide. But really need to test the process-level and driver input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sets are large and complex. This cries out for web-based approach to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n’t want to reinvent the wheel here. There are existing platforms for inventory access and evaluation (NEISGEI and GEIA are good example) that could be improved, rather than starting from scrat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eds and uses of inventories cover a range of T-S scales, and many groups are and will be involved in evaluating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ong theme of the workshop was getting more feedback built in to the system, particularly from the modeling and observations to the inventory develop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International programs that already exist and to which this effort could be connected: GEIA, GEOSS, HTAP, GEO, IGBP, IPCC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Effort could aid other nations in capacity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mention: EPA now has mandate to build GHG inventory, so timing excellent for community US emissions eff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D9C5F-8F82-465D-A814-E7A95F8C5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term is now through next few mon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term steps will start once there is a plan in place; they will require significant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goal is the open system to access all types of emis-relate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not need to be one site or portal. IT has progressed to allow data access between multiple portals. It’s a matter of making the conn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also need good IT people and will need some more resources. We will make progress on this in shor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need to demonstrate that by taking the trouble to pursue this community effort, the research improves. This will help bring in resour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emphasize enough that we need to have more exchange between development and evaluation commun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willing to start this effort working under our current funding. But new resources eventually will be needed if we are to realize the vision 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F36F1-CFFA-4B46-9788-02A4FF3F9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ERA is still very much in its beginning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erfect time to get inv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BDA08-A94A-4224-8ADA-F3C46AE9F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C4B-AF7C-493C-8E02-FFBBC09D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D24-A87F-4DC4-B2F3-BA479600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E7A-CEEE-4B84-897E-356EF299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5A1-15B0-494E-8FCB-F0967BB0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0BC-5833-4336-890C-166A30C9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19C-06AF-4371-9AA8-6E39EA18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DCD-1F3F-429E-AE4F-6252B973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810-16FF-4CB0-9DFE-AABB61E0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9C8-F701-4033-B7AC-B9A868F3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18E-E7ED-4F5D-9CF1-715D7825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3A5-AE62-4B58-88BC-52E7385C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414-005B-4ABE-A25C-98F4D373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FE126-2DA5-4BDA-9ED3-9C1F10A92AC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BEA68-4ECE-4B03-B5B0-614FC1AC08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gregory.j.frost@noaa.gov" TargetMode="External"/><Relationship Id="rId2" Type="http://schemas.openxmlformats.org/officeDocument/2006/relationships/hyperlink" Target="mailto:Stefan.Falke@ngc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0" y="131760"/>
            <a:ext cx="9144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munity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iative for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s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earch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5079960" y="1363680"/>
            <a:ext cx="3533760" cy="1618560"/>
          </a:xfrm>
          <a:prstGeom prst="rect">
            <a:avLst/>
          </a:prstGeom>
          <a:noFill/>
          <a:ln w="1908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utline for this Brie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tivation for 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mary of First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Steps for 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itation to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7"/>
          <p:cNvSpPr/>
          <p:nvPr/>
        </p:nvSpPr>
        <p:spPr>
          <a:xfrm>
            <a:off x="127080" y="1363680"/>
            <a:ext cx="4952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egory Fr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AA/ESRL &amp; Univ. Colorado/CIRES, Boulder, 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fan Fal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rthrop Grumman &amp; Washington Univ., St. Louis, 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aire Gran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iversité Pierre et Marie Curie/LATMOS, Paris,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AA/ESRL &amp; Univ. Colorado/CIRES, Boulder, 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ry Ke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PA/OAR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an-François Lamar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CAR/ACD &amp; CGD, Boulder, 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ulette Middle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norama Pathways, Boulder, 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brielle Pé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AA/ESRL &amp; Univ. Colorado/CIRES, Boulder, 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ven J. 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OE/PNNL &amp; Univ. Maryland/JGCRI, College Park, 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many others involved in 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2816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Motivation for 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26"/>
          <p:cNvSpPr/>
          <p:nvPr/>
        </p:nvSpPr>
        <p:spPr>
          <a:xfrm>
            <a:off x="1073520" y="3429000"/>
            <a:ext cx="7074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ative emission information is needed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 for the 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ing and calculating th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ng and projecting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ction for mitigation, adapt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choices: Which “knob” to turn? Is one better than the ot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6"/>
          <p:cNvSpPr/>
          <p:nvPr/>
        </p:nvSpPr>
        <p:spPr>
          <a:xfrm>
            <a:off x="927000" y="727200"/>
            <a:ext cx="72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 and decisions about the atmosphere focus on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0"/>
          <p:cNvSpPr/>
          <p:nvPr/>
        </p:nvSpPr>
        <p:spPr>
          <a:xfrm>
            <a:off x="6343560" y="613404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courtesy of A.R. Ravish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avi_figure_4.png" descr="/Users/frost/Documents/Meetings-Presentations/2010/ESIP_Jan5-7_Remote/ravi_figure_4.png"/>
          <p:cNvPicPr/>
          <p:nvPr/>
        </p:nvPicPr>
        <p:blipFill>
          <a:blip r:embed="rId1"/>
          <a:stretch/>
        </p:blipFill>
        <p:spPr>
          <a:xfrm>
            <a:off x="63360" y="1096920"/>
            <a:ext cx="901728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86"/>
          <p:cNvGrpSpPr/>
          <p:nvPr/>
        </p:nvGrpSpPr>
        <p:grpSpPr>
          <a:xfrm>
            <a:off x="4457880" y="136440"/>
            <a:ext cx="4657680" cy="4584240"/>
            <a:chOff x="4457880" y="136440"/>
            <a:chExt cx="4657680" cy="4584240"/>
          </a:xfrm>
        </p:grpSpPr>
        <p:sp>
          <p:nvSpPr>
            <p:cNvPr id="59" name="Isosceles Triangle 87"/>
            <p:cNvSpPr/>
            <p:nvPr/>
          </p:nvSpPr>
          <p:spPr>
            <a:xfrm>
              <a:off x="5765760" y="136440"/>
              <a:ext cx="2016000" cy="1665360"/>
            </a:xfrm>
            <a:prstGeom prst="triangle">
              <a:avLst>
                <a:gd name="adj" fmla="val 50000"/>
              </a:avLst>
            </a:prstGeom>
            <a:solidFill>
              <a:srgbClr val="d7e4bd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Isosceles Triangle 88"/>
            <p:cNvSpPr/>
            <p:nvPr/>
          </p:nvSpPr>
          <p:spPr>
            <a:xfrm>
              <a:off x="4568760" y="2136960"/>
              <a:ext cx="2019240" cy="1663920"/>
            </a:xfrm>
            <a:prstGeom prst="triangle">
              <a:avLst>
                <a:gd name="adj" fmla="val 50000"/>
              </a:avLst>
            </a:prstGeom>
            <a:solidFill>
              <a:srgbClr val="d7e4bd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89"/>
            <p:cNvSpPr/>
            <p:nvPr/>
          </p:nvSpPr>
          <p:spPr>
            <a:xfrm>
              <a:off x="6934320" y="2136960"/>
              <a:ext cx="2019240" cy="1663920"/>
            </a:xfrm>
            <a:prstGeom prst="triangle">
              <a:avLst>
                <a:gd name="adj" fmla="val 50000"/>
              </a:avLst>
            </a:prstGeom>
            <a:solidFill>
              <a:srgbClr val="d7e4bd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48"/>
            <p:cNvSpPr/>
            <p:nvPr/>
          </p:nvSpPr>
          <p:spPr>
            <a:xfrm>
              <a:off x="4457880" y="4413600"/>
              <a:ext cx="106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u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49"/>
            <p:cNvSpPr/>
            <p:nvPr/>
          </p:nvSpPr>
          <p:spPr>
            <a:xfrm>
              <a:off x="5521320" y="441360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50"/>
            <p:cNvSpPr/>
            <p:nvPr/>
          </p:nvSpPr>
          <p:spPr>
            <a:xfrm>
              <a:off x="5006880" y="3151440"/>
              <a:ext cx="127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ento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ight Arrow 93"/>
            <p:cNvSpPr/>
            <p:nvPr/>
          </p:nvSpPr>
          <p:spPr>
            <a:xfrm rot="16200000">
              <a:off x="4687560" y="4071960"/>
              <a:ext cx="520560" cy="161640"/>
            </a:xfrm>
            <a:prstGeom prst="rightArrow">
              <a:avLst>
                <a:gd name="adj1" fmla="val 50000"/>
                <a:gd name="adj2" fmla="val 50081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08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ight Arrow 94"/>
            <p:cNvSpPr/>
            <p:nvPr/>
          </p:nvSpPr>
          <p:spPr>
            <a:xfrm rot="16200000">
              <a:off x="5789520" y="4071960"/>
              <a:ext cx="520560" cy="161640"/>
            </a:xfrm>
            <a:prstGeom prst="rightArrow">
              <a:avLst>
                <a:gd name="adj1" fmla="val 50000"/>
                <a:gd name="adj2" fmla="val 50081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08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59"/>
            <p:cNvSpPr/>
            <p:nvPr/>
          </p:nvSpPr>
          <p:spPr>
            <a:xfrm>
              <a:off x="6985080" y="4413600"/>
              <a:ext cx="106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u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60"/>
            <p:cNvSpPr/>
            <p:nvPr/>
          </p:nvSpPr>
          <p:spPr>
            <a:xfrm>
              <a:off x="8048880" y="441360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ight Arrow 97"/>
            <p:cNvSpPr/>
            <p:nvPr/>
          </p:nvSpPr>
          <p:spPr>
            <a:xfrm rot="16200000">
              <a:off x="7216920" y="4070520"/>
              <a:ext cx="520560" cy="164880"/>
            </a:xfrm>
            <a:prstGeom prst="rightArrow">
              <a:avLst>
                <a:gd name="adj1" fmla="val 50000"/>
                <a:gd name="adj2" fmla="val 5004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08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ight Arrow 98"/>
            <p:cNvSpPr/>
            <p:nvPr/>
          </p:nvSpPr>
          <p:spPr>
            <a:xfrm rot="16200000">
              <a:off x="8317080" y="4071960"/>
              <a:ext cx="520560" cy="161640"/>
            </a:xfrm>
            <a:prstGeom prst="rightArrow">
              <a:avLst>
                <a:gd name="adj1" fmla="val 50000"/>
                <a:gd name="adj2" fmla="val 50081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08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64"/>
            <p:cNvSpPr/>
            <p:nvPr/>
          </p:nvSpPr>
          <p:spPr>
            <a:xfrm>
              <a:off x="7220160" y="3151440"/>
              <a:ext cx="14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65"/>
            <p:cNvSpPr/>
            <p:nvPr/>
          </p:nvSpPr>
          <p:spPr>
            <a:xfrm>
              <a:off x="6251760" y="90648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ir Quality Clim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ight Arrow 101"/>
            <p:cNvSpPr/>
            <p:nvPr/>
          </p:nvSpPr>
          <p:spPr>
            <a:xfrm rot="13500000">
              <a:off x="6912000" y="2116080"/>
              <a:ext cx="898560" cy="161640"/>
            </a:xfrm>
            <a:prstGeom prst="rightArrow">
              <a:avLst>
                <a:gd name="adj1" fmla="val 50000"/>
                <a:gd name="adj2" fmla="val 50083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ight Arrow 102"/>
            <p:cNvSpPr/>
            <p:nvPr/>
          </p:nvSpPr>
          <p:spPr>
            <a:xfrm rot="2700000">
              <a:off x="6818760" y="2267280"/>
              <a:ext cx="898560" cy="163440"/>
            </a:xfrm>
            <a:prstGeom prst="rightArrow">
              <a:avLst>
                <a:gd name="adj1" fmla="val 50000"/>
                <a:gd name="adj2" fmla="val 50015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27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Arrow 103"/>
            <p:cNvSpPr/>
            <p:nvPr/>
          </p:nvSpPr>
          <p:spPr>
            <a:xfrm rot="18900000">
              <a:off x="5878440" y="2247480"/>
              <a:ext cx="898560" cy="161640"/>
            </a:xfrm>
            <a:prstGeom prst="rightArrow">
              <a:avLst>
                <a:gd name="adj1" fmla="val 50000"/>
                <a:gd name="adj2" fmla="val 50083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81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Arrow 104"/>
            <p:cNvSpPr/>
            <p:nvPr/>
          </p:nvSpPr>
          <p:spPr>
            <a:xfrm rot="8100000">
              <a:off x="5740200" y="2115720"/>
              <a:ext cx="900000" cy="161640"/>
            </a:xfrm>
            <a:prstGeom prst="rightArrow">
              <a:avLst>
                <a:gd name="adj1" fmla="val 50000"/>
                <a:gd name="adj2" fmla="val 50086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89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3"/>
            <p:cNvSpPr/>
            <p:nvPr/>
          </p:nvSpPr>
          <p:spPr>
            <a:xfrm>
              <a:off x="6337440" y="2235240"/>
              <a:ext cx="93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23"/>
            <p:cNvSpPr/>
            <p:nvPr/>
          </p:nvSpPr>
          <p:spPr>
            <a:xfrm>
              <a:off x="6143760" y="27259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valu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Arrow 107"/>
            <p:cNvSpPr/>
            <p:nvPr/>
          </p:nvSpPr>
          <p:spPr>
            <a:xfrm>
              <a:off x="6319800" y="2981520"/>
              <a:ext cx="900000" cy="164880"/>
            </a:xfrm>
            <a:prstGeom prst="rightArrow">
              <a:avLst>
                <a:gd name="adj1" fmla="val 50000"/>
                <a:gd name="adj2" fmla="val 50062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Arrow 108"/>
            <p:cNvSpPr/>
            <p:nvPr/>
          </p:nvSpPr>
          <p:spPr>
            <a:xfrm rot="10800000">
              <a:off x="6296040" y="3133800"/>
              <a:ext cx="898560" cy="164880"/>
            </a:xfrm>
            <a:prstGeom prst="rightArrow">
              <a:avLst>
                <a:gd name="adj1" fmla="val 50000"/>
                <a:gd name="adj2" fmla="val 5005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5200" y="136080"/>
            <a:ext cx="4572000" cy="4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Motivation for 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1"/>
          <p:cNvSpPr/>
          <p:nvPr/>
        </p:nvSpPr>
        <p:spPr>
          <a:xfrm>
            <a:off x="1681200" y="4910040"/>
            <a:ext cx="571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the community work together to optimize the emission system for the US and the wor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 these differ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on what is already being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new knowledge through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9"/>
          <p:cNvSpPr/>
          <p:nvPr/>
        </p:nvSpPr>
        <p:spPr>
          <a:xfrm>
            <a:off x="171360" y="923760"/>
            <a:ext cx="51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ission information serves man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mospheric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ization for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elines for pro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1"/>
          <p:cNvSpPr/>
          <p:nvPr/>
        </p:nvSpPr>
        <p:spPr>
          <a:xfrm>
            <a:off x="171360" y="3244680"/>
            <a:ext cx="41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roaches to understanding emissions should fit thes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needs result in different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1"/>
          <p:cNvSpPr/>
          <p:nvPr/>
        </p:nvSpPr>
        <p:spPr>
          <a:xfrm>
            <a:off x="0" y="141120"/>
            <a:ext cx="91440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First Workshop -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4 December 2009, Boulder, Col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5"/>
          <p:cNvSpPr/>
          <p:nvPr/>
        </p:nvSpPr>
        <p:spPr>
          <a:xfrm>
            <a:off x="5678640" y="858960"/>
            <a:ext cx="3071520" cy="4608360"/>
          </a:xfrm>
          <a:custGeom>
            <a:avLst/>
            <a:gdLst>
              <a:gd name="textAreaLeft" fmla="*/ 149760 w 3071520"/>
              <a:gd name="textAreaRight" fmla="*/ 2921760 w 3071520"/>
              <a:gd name="textAreaTop" fmla="*/ 149760 h 4608360"/>
              <a:gd name="textAreaBottom" fmla="*/ 4458600 h 4608360"/>
            </a:gdLst>
            <a:ahLst/>
            <a:rect l="textAreaLeft" t="textAreaTop" r="textAreaRight" b="textAreaBottom"/>
            <a:pathLst>
              <a:path w="21600" h="32406">
                <a:moveTo>
                  <a:pt x="3600" y="0"/>
                </a:moveTo>
                <a:arcTo wR="3600" hR="3600" stAng="16200000" swAng="-5400000"/>
                <a:lnTo>
                  <a:pt x="0" y="28806"/>
                </a:lnTo>
                <a:arcTo wR="3600" hR="3600" stAng="10800000" swAng="-5400000"/>
                <a:lnTo>
                  <a:pt x="18000" y="324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 E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A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cade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d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/ St Lo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orama Path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12"/>
          <p:cNvSpPr/>
          <p:nvPr/>
        </p:nvSpPr>
        <p:spPr>
          <a:xfrm>
            <a:off x="322200" y="858960"/>
            <a:ext cx="5005440" cy="29638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shop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gin conversation about emission needs of research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overview of some US emission inventory developmen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evaluation approaches using observations and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plans to carry out such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an open research emission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13"/>
          <p:cNvSpPr/>
          <p:nvPr/>
        </p:nvSpPr>
        <p:spPr>
          <a:xfrm>
            <a:off x="322200" y="4135320"/>
            <a:ext cx="5005440" cy="21351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nto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ss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ations for inventor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emission needs and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ssion data access &amp; evalu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0" y="166680"/>
            <a:ext cx="9144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Some Themes from First Workshop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11200" y="712800"/>
            <a:ext cx="812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between inventory development, observations, &amp;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 emissions nomenclature and categoriz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beyond ad-hoc emissions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connections between emissions relevant to air quality &amp;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more timely inventory data on national &amp; glob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inventory information more 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data access &amp; analysis through I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existing data sets and systems: we know a lot alrea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comparisons of inventories, observations, &amp; models on multiple spatial-tempor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stronger feedback process between these discip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link between air quality &amp; climate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US and international emissio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1"/>
          <p:cNvSpPr/>
          <p:nvPr/>
        </p:nvSpPr>
        <p:spPr>
          <a:xfrm>
            <a:off x="0" y="2016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Next Steps for 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30280" y="676440"/>
            <a:ext cx="808344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orte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cit community involvement: emails, conference brief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web presence and set up lists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multi-agency 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links between existing emission por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nge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open, multi-scale, air quality &amp; climate emission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lying driv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/national/regional/global inven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storical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documentation and prov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al data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manipulation, analysis, and visualiz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s to other data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emission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models with evaluated emission data and assess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nstrate CIERA produces key input for research &amp; regulato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stronger feedbacks between research &amp; regulatory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CIERA as a sustainabl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le 1"/>
          <p:cNvSpPr/>
          <p:nvPr/>
        </p:nvSpPr>
        <p:spPr>
          <a:xfrm>
            <a:off x="0" y="166680"/>
            <a:ext cx="9144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Invitation to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038240" y="6581880"/>
            <a:ext cx="70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ERA, Federation of Earth Science Information Partners Winter Conference 2010, Washington,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562040" y="7128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ERA is a community effort, and its success will depend on the community’s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2243160" y="1558800"/>
            <a:ext cx="4657680" cy="235584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at You Ca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CI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CIERA listserv when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others about 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 and join CIERA 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e data to the CIER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IER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1882800" y="4119480"/>
            <a:ext cx="5365800" cy="2462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ER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eg Frost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gregory.j.frost@noa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fan Falk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Stefan.Falke@ngc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aire Granier Claire.Granier@noaa.g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ry Keating keating.terry@epa.g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an-François Lamarque lamar@ucar.ed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ulette Middleton paulette@panoramapathways.n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brielle Pétron Gabrielle.Petron@noaa.g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ve Smith ssmith@pnl.g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34:00Z</dcterms:created>
  <dc:creator>Gregory Frost</dc:creator>
  <dc:description/>
  <dc:language>en-US</dc:language>
  <cp:lastModifiedBy>WU</cp:lastModifiedBy>
  <cp:lastPrinted>2009-12-11T18:55:05Z</cp:lastPrinted>
  <dcterms:modified xsi:type="dcterms:W3CDTF">2010-01-05T14:38:29Z</dcterms:modified>
  <cp:revision>557</cp:revision>
  <dc:subject/>
  <dc:title>Slide 1</dc:title>
</cp:coreProperties>
</file>